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7E76-29EC-43C2-AD5F-60192E373F0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3472-9027-40E2-8D29-189271DC96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A101-8176-4C1B-AD8D-3BB4D3B9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C90-4B7C-4D05-8135-AB01903F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6B11-A516-459C-84FB-821CA00B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3F20-7BC1-44CB-9D1B-CF3C7BCC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288-2657-44F9-B077-2659BC51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A27-653A-49F2-8CAF-46F03E34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ACE3-5999-4D47-B908-930C747B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807-0C02-4B28-BF68-21EB5312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8D5-7086-4A83-8D78-3206081E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723-E534-4851-9CA0-A90AAFFD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653-D272-472B-9411-3D5DE061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414A-5290-47BB-9DF3-9FF397F7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29AA-61EA-43E1-8FA5-1FA7CEB8C52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EBEA0067-9290-4D63-B3EC-E7966FA6FE4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785880" y="1247760"/>
            <a:ext cx="7543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20.1.1 The basic conditional sent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14200" y="2133720"/>
          <a:ext cx="9072720" cy="2295360"/>
        </p:xfrm>
        <a:graphic>
          <a:graphicData uri="http://schemas.openxmlformats.org/drawingml/2006/table">
            <a:tbl>
              <a:tblPr/>
              <a:tblGrid>
                <a:gridCol w="1621080"/>
                <a:gridCol w="3736800"/>
                <a:gridCol w="37148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asi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the 'if' cl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dosi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the 'then' cla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l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5.18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 δε πνευματι ἀγ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ὐκ ἐστε ὑπο νομ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 you are led by the spir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 under la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54"/>
          <p:cNvSpPr/>
          <p:nvPr/>
        </p:nvSpPr>
        <p:spPr>
          <a:xfrm>
            <a:off x="228600" y="4276800"/>
            <a:ext cx="89866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you like Greek (then) you are wise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t is true that you like Greek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t is automatically true that you are w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B75BE653-04CC-4F9F-916D-EF83CC30E5D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1"/>
          <p:cNvSpPr/>
          <p:nvPr/>
        </p:nvSpPr>
        <p:spPr>
          <a:xfrm>
            <a:off x="8075160" y="36972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Group 46" descr=""/>
          <p:cNvPicPr/>
          <p:nvPr/>
        </p:nvPicPr>
        <p:blipFill>
          <a:blip r:embed="rId1"/>
          <a:stretch/>
        </p:blipFill>
        <p:spPr>
          <a:xfrm>
            <a:off x="895320" y="1901880"/>
            <a:ext cx="7456680" cy="44067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4"/>
          <p:cNvSpPr/>
          <p:nvPr/>
        </p:nvSpPr>
        <p:spPr>
          <a:xfrm>
            <a:off x="214200" y="114300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14.17: 'Evening having happened, he comes with the twelve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41"/>
          <p:cNvSpPr/>
          <p:nvPr/>
        </p:nvSpPr>
        <p:spPr>
          <a:xfrm>
            <a:off x="3338640" y="1785960"/>
            <a:ext cx="1440" cy="439884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F4F456AE-8445-421D-82B5-082347D5662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85680" y="1984320"/>
            <a:ext cx="7162920" cy="33786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nitive absolutes normally occur at the beginning of sentences – so if the first word in a sentence is in the genitive, 'think genitive absolute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ery often genitive absolutes give some 'background information', such as the time or circumstances at which something happe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F5EDA889-56AE-4958-A827-CB1852D8CFB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42920" y="1157400"/>
            <a:ext cx="900108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4.6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ὀντος του Πετρου κατω ἐν τῃ αὐλ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χεται μια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ων παιδισκω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Peter was below in the Ha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one of the servant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irls of the high priest c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6.2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σθιοντων αὐτ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π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∙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μην λεγω ὑμι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they were eat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Jesus said, 'Amen I say 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m. 5.13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ἁμαρτια δε οὐκ ἐλλογει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μη ὀντος νο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 is not counte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there is no la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81E7EE0C-DF30-448A-9ADF-F32DC598175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53880" y="1928880"/>
          <a:ext cx="8404200" cy="3475080"/>
        </p:xfrm>
        <a:graphic>
          <a:graphicData uri="http://schemas.openxmlformats.org/drawingml/2006/table">
            <a:tbl>
              <a:tblPr/>
              <a:tblGrid>
                <a:gridCol w="2235240"/>
                <a:gridCol w="2683080"/>
                <a:gridCol w="3485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phrastic Construc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resen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Perfect 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PERIPHRAS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B4C053E6-08C9-4969-B870-3286CD7C828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62000" y="1173240"/>
            <a:ext cx="955368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2.18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σα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ἱ μαθηται Ἰωαννου και οἱ Φαρισαιοι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νηστευοντε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isciples of John and the Pharisee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ere fast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ph. 2.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χαριτ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στε σεσῳσμενο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grac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you have been sa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John 12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ἱνα ἡ χαρα ἡμω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πληρωμενη ᾐ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…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order that our jo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ight be comple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Note: here the periphrastic uses the present subjunctiv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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ἱν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25B4334C-B438-47E3-A699-3EEC66996C3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3840" y="1596960"/>
          <a:ext cx="8867880" cy="4118040"/>
        </p:xfrm>
        <a:graphic>
          <a:graphicData uri="http://schemas.openxmlformats.org/drawingml/2006/table">
            <a:tbl>
              <a:tblPr/>
              <a:tblGrid>
                <a:gridCol w="2662200"/>
                <a:gridCol w="2714760"/>
                <a:gridCol w="1643040"/>
                <a:gridCol w="1847880"/>
              </a:tblGrid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 Vow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 Vow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er, more 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ε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ε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lative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est, most/very wi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ative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ερ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ερ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erlative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dver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/very wise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οφ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ω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ικαι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</a:rPr>
                        <a:t>ο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6B488771-32CC-44E1-AB69-ACF56638811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8520" y="2185920"/>
          <a:ext cx="9752040" cy="3017880"/>
        </p:xfrm>
        <a:graphic>
          <a:graphicData uri="http://schemas.openxmlformats.org/drawingml/2006/table">
            <a:tbl>
              <a:tblPr/>
              <a:tblGrid>
                <a:gridCol w="1214640"/>
                <a:gridCol w="1000080"/>
                <a:gridCol w="642960"/>
                <a:gridCol w="1785960"/>
                <a:gridCol w="1314360"/>
                <a:gridCol w="231840"/>
                <a:gridCol w="1411200"/>
                <a:gridCol w="1371600"/>
                <a:gridCol w="779400"/>
              </a:tblGrid>
              <a:tr h="505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s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αθ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εισσ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κ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ειρ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r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γ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ιζ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κ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κροτε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er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αχιστ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all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2" name="Text Box 267"/>
          <p:cNvSpPr/>
          <p:nvPr/>
        </p:nvSpPr>
        <p:spPr>
          <a:xfrm>
            <a:off x="685800" y="14288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mon Irregular Fo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traight Arrow Connector 7"/>
          <p:cNvCxnSpPr/>
          <p:nvPr/>
        </p:nvCxnSpPr>
        <p:spPr>
          <a:xfrm>
            <a:off x="2443320" y="294336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65" name="Straight Arrow Connector 8"/>
          <p:cNvCxnSpPr/>
          <p:nvPr/>
        </p:nvCxnSpPr>
        <p:spPr>
          <a:xfrm>
            <a:off x="2443320" y="348624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66" name="Straight Arrow Connector 9"/>
          <p:cNvCxnSpPr/>
          <p:nvPr/>
        </p:nvCxnSpPr>
        <p:spPr>
          <a:xfrm>
            <a:off x="2443320" y="3971520"/>
            <a:ext cx="64332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67" name="Straight Arrow Connector 10"/>
          <p:cNvCxnSpPr/>
          <p:nvPr/>
        </p:nvCxnSpPr>
        <p:spPr>
          <a:xfrm>
            <a:off x="2457360" y="445788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68" name="Straight Arrow Connector 11"/>
          <p:cNvCxnSpPr/>
          <p:nvPr/>
        </p:nvCxnSpPr>
        <p:spPr>
          <a:xfrm>
            <a:off x="2443320" y="4955760"/>
            <a:ext cx="64332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ED901C5E-7EED-4FFF-B291-8F7FE3CE585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8760" y="1371600"/>
          <a:ext cx="8501040" cy="2057400"/>
        </p:xfrm>
        <a:graphic>
          <a:graphicData uri="http://schemas.openxmlformats.org/drawingml/2006/table">
            <a:tbl>
              <a:tblPr/>
              <a:tblGrid>
                <a:gridCol w="1300680"/>
                <a:gridCol w="499680"/>
                <a:gridCol w="331560"/>
                <a:gridCol w="216000"/>
                <a:gridCol w="607680"/>
                <a:gridCol w="1478520"/>
                <a:gridCol w="1284840"/>
                <a:gridCol w="428040"/>
                <a:gridCol w="1405440"/>
                <a:gridCol w="948600"/>
              </a:tblGrid>
              <a:tr h="50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je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r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αθ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ὐ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used ro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λλ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λισ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a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96"/>
          <p:cNvSpPr/>
          <p:nvPr/>
        </p:nvSpPr>
        <p:spPr>
          <a:xfrm>
            <a:off x="243000" y="3714840"/>
            <a:ext cx="868680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 learned in module 12.4 that comparison is expressed in Greek either (i) by a genitive, or (ii) by the use of the word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ἠ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ith the second noun in the same case as the fi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μαλλο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dverb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'more' (qualifying a verb), while 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πλει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the adjective 'more' (qualifying a no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superlative was gradually falling out of use, and often the comparative was used in its pl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Straight Arrow Connector 5"/>
          <p:cNvCxnSpPr/>
          <p:nvPr/>
        </p:nvCxnSpPr>
        <p:spPr>
          <a:xfrm>
            <a:off x="2700360" y="211464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74" name="Straight Arrow Connector 6"/>
          <p:cNvCxnSpPr/>
          <p:nvPr/>
        </p:nvCxnSpPr>
        <p:spPr>
          <a:xfrm>
            <a:off x="2700360" y="2685600"/>
            <a:ext cx="64332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75" name="Straight Arrow Connector 7"/>
          <p:cNvCxnSpPr/>
          <p:nvPr/>
        </p:nvCxnSpPr>
        <p:spPr>
          <a:xfrm>
            <a:off x="2700360" y="3184560"/>
            <a:ext cx="64332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76" name="Straight Arrow Connector 8"/>
          <p:cNvCxnSpPr/>
          <p:nvPr/>
        </p:nvCxnSpPr>
        <p:spPr>
          <a:xfrm>
            <a:off x="5929200" y="2685600"/>
            <a:ext cx="64332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842E5131-99D6-42C2-8A5E-D244FB14867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71520" y="2233440"/>
            <a:ext cx="8400960" cy="23112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helpful to remember that words ending in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ω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adverbs. You should now understand how the form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ω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μοιω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ω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which you learnt earlier, have been formed from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ος, ὁμοιος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1DFA4932-A5D1-4CC0-A688-C02ABB6598E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142920" y="4284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MPARISON AND FORMATION OF ADJECTIVES AND AD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71680" y="1171440"/>
          <a:ext cx="8143560" cy="1524240"/>
        </p:xfrm>
        <a:graphic>
          <a:graphicData uri="http://schemas.openxmlformats.org/drawingml/2006/table">
            <a:tbl>
              <a:tblPr/>
              <a:tblGrid>
                <a:gridCol w="4174920"/>
                <a:gridCol w="3968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ξιως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a worthy mann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ρωτως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 the first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ς</a:t>
                      </a:r>
                      <a:r>
                        <a:rPr b="0" lang="en-US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y all m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ὀντω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­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29"/>
          <p:cNvSpPr/>
          <p:nvPr/>
        </p:nvSpPr>
        <p:spPr>
          <a:xfrm>
            <a:off x="338040" y="29224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214200" y="2957400"/>
            <a:ext cx="9144000" cy="38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1.32: 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ἐφερον προς αὐτον παντας τους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κακω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 ἐχοντας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y were bringing to him all those who were s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lit: the ones 'having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adl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5.23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λεγων ὁτι Το θυγατριον μου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ἐσχατω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 ἐχε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ying, 'My daughter is dying' (lit: ha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inall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 Cor. 7.40: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μακαριωτερα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 δε ἐστιν ἐαν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</a:rPr>
              <a:t>οὑτω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</a:rPr>
              <a:t> μειν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he i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more bless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f she remains as she is (lit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u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9AC29E3C-0673-4B56-B8B8-E08EBE0E809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00200" y="1176480"/>
            <a:ext cx="7743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20.1.2 Two variations on the basic conditi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33200" y="1814400"/>
            <a:ext cx="8996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a) Indefinite Conditions (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subjunctiv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Greek will use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subjunctive 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 + Indicative in the prota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'If you like Greek, you will learn it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ever, sometimes,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+ subjunctive is used to highlight that the protasis is indefinite because it addresses a generic situation, without a particular occasion being in m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‘If someone enjoys rules and patterns, they like Greek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05B9B5AC-9741-452A-AA21-5A27DA61984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244440" y="2761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OPTA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14200" y="12142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ptative is used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For wi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For indirect questions (i.e. questions within reported speech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42920" y="2928960"/>
            <a:ext cx="88581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mans 6.1-2: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ιμενωμεν τῃ ἁμαρτιᾳ, ἱνα ἡ χαρις πλεονασ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μη γενοι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Should we remain in sin in order that grace abounds?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y no mea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1.38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γενοιτο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μοι κατα το ῥημα 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y it b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me according to your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A64EDB3C-57DE-4F20-BB22-A90997FDA6C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214280" y="4000680"/>
            <a:ext cx="6715440" cy="1723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English,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contrary to fact condition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marked out by 'would' in the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podosi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90440" y="1214280"/>
            <a:ext cx="895356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) 'Contrary to Fact' conditions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apodosi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Greek will put the wor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apodosis; it is still the case that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protasis is tru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apodosis follows. However, the writer believes that the protasis is NOT tr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 ‘If you had liked Greek, you would have learnt it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96F4BE54-B3BE-4E5B-A786-1B35107D9DE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00120" y="11574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0.1.3 The form of conditionals in Gr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73040" y="1785960"/>
          <a:ext cx="8199360" cy="1768320"/>
        </p:xfrm>
        <a:graphic>
          <a:graphicData uri="http://schemas.openxmlformats.org/drawingml/2006/table">
            <a:tbl>
              <a:tblPr/>
              <a:tblGrid>
                <a:gridCol w="3460680"/>
                <a:gridCol w="2352960"/>
                <a:gridCol w="2385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ta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d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sic Conditi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Mood or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efinite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αν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Subjun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 Mood or Te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Contrary to Fact'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0"/>
          <p:cNvSpPr/>
          <p:nvPr/>
        </p:nvSpPr>
        <p:spPr>
          <a:xfrm>
            <a:off x="152280" y="3857760"/>
            <a:ext cx="8839440" cy="2273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Protasis: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εἰ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 + Indicative = If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+ Subjunctive = If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(future/generalised/hypothetical)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podosis: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30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= Would (</a:t>
            </a:r>
            <a:r>
              <a:rPr b="0" i="1" lang="en-GB" sz="2600" spc="-1" strike="noStrike">
                <a:solidFill>
                  <a:srgbClr val="ffffff"/>
                </a:solidFill>
                <a:latin typeface="Arial"/>
              </a:rPr>
              <a:t>protasis seen as untrue)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8DC26EEF-6084-4245-9207-596EA31D566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44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14200" y="1274760"/>
            <a:ext cx="87156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l-GR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Basic Conditions (Fulfille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Gal. 3.29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δε ὑμεις Χριστου, ἀρα του Ἀβρααμ σπερμα ἐστε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f you are Christ's, then you are Abraham's offspr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1 Cor. 8.3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δε τις ἀγαπᾳ τον θεον, οὑτος ἐγνωσται ὑπ’ αὐτο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f someone loves God, he is known by hi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Luke 23.37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συ εἶ ὁ βασιλευς των Ἰουδαιων, σωσον σεαυτο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f you are the king of Israel, save yourself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Luke 11.19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δε ἐγω ἐν Βεελζεβουλ ἐκβαλλω τα δαιμονια, οἱ υἱοι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ὑμων ἐν τίνι ἐκβαλλουσι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If I cast out demons by Beelzeboul, by whom do your sons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cast them out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CDC429A7-27E3-42BE-83D5-43D9B315B13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14200" y="1184400"/>
            <a:ext cx="8858520" cy="55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definit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9.21: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ον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ἁψωμα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του ἱματιου αὐτου, σωθησ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only I touch his cloak, I will be sa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14.14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αἰτησητε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με ἐν τῳ ὀνοματι μου, ἐγω ποιησ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you ask me for anything in my name, I will d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r. 14.14: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αρ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προσευχω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γλωσσ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νευμα μου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ροσευ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cause if I pray in a tongue, my spirit pr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 John 2.15: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ἀγαπ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κοσμον, οὐκ ἐστιν ἡ ἀγαπη του πατρος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ν αὐτ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someone loves the world, the love of th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ther is not in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1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9CCC2502-B2E8-4134-8110-52F5C813273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57120" y="1440000"/>
            <a:ext cx="85010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Unfulfilled Cond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John 5.46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γαρ ἐπιστευετε Μωϋσει, ἐπιστευετε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ἐμοι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you believe Moses, you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believe m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1 Cor. 2.8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γαρ ἐγνωσαν, οὐκ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τον κυριον της δοξης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σταυρωσα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they had known, they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not have crucified the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lord of glo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Heb. 8.4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</a:t>
            </a:r>
            <a:r>
              <a:rPr b="0" lang="en-GB" sz="2500" spc="-1" strike="noStrike" u="sng">
                <a:solidFill>
                  <a:srgbClr val="ffffff"/>
                </a:solidFill>
                <a:uFillTx/>
                <a:latin typeface="Gentium"/>
              </a:rPr>
              <a:t>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μεν οὐν ἠν ἐπι γης, οὐδ’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ἀ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ἠν ἱερευ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he were on earth, he </a:t>
            </a:r>
            <a:r>
              <a:rPr b="0" lang="en-GB" sz="2100" spc="-1" strike="noStrike" u="sng">
                <a:solidFill>
                  <a:srgbClr val="ffffff"/>
                </a:solidFill>
                <a:uFillTx/>
                <a:latin typeface="Arial"/>
              </a:rPr>
              <a:t>would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 not even be a 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Arial"/>
              </a:rPr>
              <a:t>pries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285840" y="2205000"/>
            <a:ext cx="8748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4.1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ὀψιας γενομενη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ρχεται μετα των δωδεκ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it was eve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he comes (came) with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el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lit: 'evening having happened'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167EE6CB-3593-4272-8791-CDA65D07725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44440" y="247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GENITIVE ABSOLU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0:Grammar </a:t>
            </a:r>
            <a:fld id="{E7F8C9C4-CF5E-4529-BDE9-8BF176D0943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494720" y="183348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5118120" y="19684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831560" y="22255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5278320" y="30542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1"/>
          <p:cNvSpPr/>
          <p:nvPr/>
        </p:nvSpPr>
        <p:spPr>
          <a:xfrm>
            <a:off x="4925160" y="331308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4998960" y="41385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5136480" y="49212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7440480" y="25639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7403400" y="28224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7561440" y="36511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0"/>
          <p:cNvSpPr/>
          <p:nvPr/>
        </p:nvSpPr>
        <p:spPr>
          <a:xfrm>
            <a:off x="7249320" y="390996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7376400" y="4734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1"/>
          <p:cNvSpPr/>
          <p:nvPr/>
        </p:nvSpPr>
        <p:spPr>
          <a:xfrm>
            <a:off x="3011400" y="39625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2944080" y="422100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7"/>
          <p:cNvSpPr/>
          <p:nvPr/>
        </p:nvSpPr>
        <p:spPr>
          <a:xfrm>
            <a:off x="3132000" y="504972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9"/>
          <p:cNvSpPr/>
          <p:nvPr/>
        </p:nvSpPr>
        <p:spPr>
          <a:xfrm>
            <a:off x="2550600" y="530064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2"/>
          <p:cNvSpPr/>
          <p:nvPr/>
        </p:nvSpPr>
        <p:spPr>
          <a:xfrm>
            <a:off x="3017880" y="613260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Group 65" descr=""/>
          <p:cNvPicPr/>
          <p:nvPr/>
        </p:nvPicPr>
        <p:blipFill>
          <a:blip r:embed="rId1"/>
          <a:stretch/>
        </p:blipFill>
        <p:spPr>
          <a:xfrm>
            <a:off x="1401840" y="1908000"/>
            <a:ext cx="6315120" cy="4700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142920" y="11415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While he was passing along the sea, he saw Simon and Andrew casting (nets) in the sea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8:27:07Z</dcterms:created>
  <dc:creator>Sarah</dc:creator>
  <dc:description/>
  <dc:language>en-US</dc:language>
  <cp:lastModifiedBy>Sarah</cp:lastModifiedBy>
  <dcterms:modified xsi:type="dcterms:W3CDTF">2009-03-23T17:29:26Z</dcterms:modified>
  <cp:revision>44</cp:revision>
  <dc:subject/>
  <dc:title>Slide 1</dc:title>
</cp:coreProperties>
</file>